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7D1E-3FB2-45A7-8F9C-D7C62A214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FE22-3E2C-470F-855A-CB1868CEC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0BDF-3211-44FC-8FCA-0028B3B7B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5F920-8B14-40D1-B921-4DF13E7FE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2E7A3-E3FE-4B02-A81D-41B2C6B9A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95F80-396A-4A67-852D-727064E87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B4962-C641-4222-AD8A-96254A3A6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47F6-CDD3-472F-A941-BBAE28B9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547B-3974-46BA-B583-36906B16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BA85-C61D-4B43-B2FB-A07AC6CA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93A3-8987-4D33-8B7E-C03A320BB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596FD-8443-496C-9302-A4B14D62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BD8B-B360-4D6B-AC17-C3E648C3B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75D4-042A-4140-8B3E-67B096CAC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C153-EC6A-49CB-B52F-BB1B97866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BDB6-B77E-40DA-BB2D-83C383974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zrzMhU_4m-g&amp;feature=related"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chcraf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Holly Hamm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Romer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h Leach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 Rob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Definition</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ans believe New England witch-craft was a way to express social and cultural anxieties among accusers rather than the harm the accused was accused 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 religion, and psychology lent bias to deciphering the meanings of witch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they determine who were witches?</a:t>
            </a:r>
            <a:endParaRPr b="0" lang="en-US" sz="40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aw them performing witch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dmitted to it</a:t>
            </a:r>
            <a:endParaRPr b="0" lang="en-US" sz="3200" spc="-1" strike="noStrike">
              <a:solidFill>
                <a:srgbClr val="000000"/>
              </a:solidFill>
              <a:latin typeface="Arial"/>
            </a:endParaRPr>
          </a:p>
        </p:txBody>
      </p:sp>
      <p:pic>
        <p:nvPicPr>
          <p:cNvPr id="70" name="Picture 5" descr="C:\Users\HRomero1993\AppData\Local\Microsoft\Windows\Temporary Internet Files\Content.IE5\DU3GFPBJ\MC900436109[1].wmf"/>
          <p:cNvPicPr/>
          <p:nvPr/>
        </p:nvPicPr>
        <p:blipFill>
          <a:blip r:embed="rId1"/>
          <a:stretch/>
        </p:blipFill>
        <p:spPr>
          <a:xfrm>
            <a:off x="2057400" y="2819520"/>
            <a:ext cx="4648320" cy="36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65240"/>
            <a:ext cx="822960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did they determine who were witches (cont’d)</a:t>
            </a:r>
            <a:endParaRPr b="0" lang="en-US" sz="2500" spc="-1" strike="noStrike">
              <a:solidFill>
                <a:srgbClr val="000000"/>
              </a:solidFill>
              <a:latin typeface="Arial"/>
            </a:endParaRPr>
          </a:p>
        </p:txBody>
      </p:sp>
      <p:sp>
        <p:nvSpPr>
          <p:cNvPr id="72" name=""/>
          <p:cNvSpPr txBox="1"/>
          <p:nvPr/>
        </p:nvSpPr>
        <p:spPr>
          <a:xfrm>
            <a:off x="3574800" y="1371240"/>
            <a:ext cx="511164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miliars” are given to them by the devi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nimals that wreaked havoc on the surrounding pop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ly British</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4" name="Picture 2" descr="familiars"/>
          <p:cNvPicPr/>
          <p:nvPr/>
        </p:nvPicPr>
        <p:blipFill>
          <a:blip r:embed="rId1"/>
          <a:stretch/>
        </p:blipFill>
        <p:spPr>
          <a:xfrm>
            <a:off x="457200" y="1371600"/>
            <a:ext cx="301788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they determine who were witches? (cont’d)</a:t>
            </a:r>
            <a:endParaRPr b="0" lang="en-US" sz="40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ing someone up and throwing them into the wa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san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n’t a witch, but they were dea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floated? (like a cor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a witc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the accused person would struggle and flail around in the water so they’d break free and swim to the top of the water any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2520"/>
            <a:ext cx="3008160" cy="186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they determine who were witches? (cont’d)</a:t>
            </a:r>
            <a:endParaRPr b="0" lang="en-US" sz="2800" spc="-1" strike="noStrike">
              <a:solidFill>
                <a:srgbClr val="000000"/>
              </a:solidFill>
              <a:latin typeface="Arial"/>
            </a:endParaRPr>
          </a:p>
        </p:txBody>
      </p:sp>
      <p:sp>
        <p:nvSpPr>
          <p:cNvPr id="78" name=""/>
          <p:cNvSpPr txBox="1"/>
          <p:nvPr/>
        </p:nvSpPr>
        <p:spPr>
          <a:xfrm>
            <a:off x="3428640" y="609120"/>
            <a:ext cx="5111640" cy="58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had a “witchma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thing like a mole, wart, or discoloration of the ski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tchmark” was considered to be where the devil touched the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ould poke them with a needle-like object on their “witchmark” and if they felt no pain then they were  said to be a witc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bleed then they were innocent</a:t>
            </a:r>
            <a:endParaRPr b="0" lang="en-US" sz="2000" spc="-1" strike="noStrike">
              <a:solidFill>
                <a:srgbClr val="000000"/>
              </a:solidFill>
              <a:latin typeface="Arial"/>
            </a:endParaRPr>
          </a:p>
        </p:txBody>
      </p:sp>
      <p:pic>
        <p:nvPicPr>
          <p:cNvPr id="79" name="Picture 5" descr="http://2.bp.blogspot.com/-Wf2VSokqq-M/Tfgk4LiQ9GI/AAAAAAAAALY/vQWAK90WL4c/s1600/witch-mark2.jpg"/>
          <p:cNvPicPr/>
          <p:nvPr/>
        </p:nvPicPr>
        <p:blipFill>
          <a:blip r:embed="rId1"/>
          <a:stretch/>
        </p:blipFill>
        <p:spPr>
          <a:xfrm>
            <a:off x="82440" y="2438280"/>
            <a:ext cx="3727440" cy="384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they determine who were witches? (cont’d)</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omeone was of a low social status then people sometimes thought that they could be a wi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witches were wom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excep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omeone was a studier of medicine, then people thought that they might be a 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Clip</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zrzMhU_4m-g&amp;feature=re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ing Witches</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tional punishment for convicted witches was being burned at the stake. This started in Europe in the witch 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 was known for hanging their witches as well as burn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England forbade it, Scotland sanctioned the torturing of witches in order to receive confe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ing Witches cont.</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rturing methods inclu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walking or ru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depriv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ing, the act of putting a board on the body and putting weight on it, was also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Witch Trial</a:t>
            </a:r>
            <a:endParaRPr b="0" lang="en-US" sz="4400" spc="-1" strike="noStrike">
              <a:solidFill>
                <a:srgbClr val="000000"/>
              </a:solidFill>
              <a:latin typeface="Arial"/>
            </a:endParaRPr>
          </a:p>
        </p:txBody>
      </p:sp>
      <p:sp>
        <p:nvSpPr>
          <p:cNvPr id="89" name=""/>
          <p:cNvSpPr txBox="1"/>
          <p:nvPr/>
        </p:nvSpPr>
        <p:spPr>
          <a:xfrm>
            <a:off x="457200" y="1600200"/>
            <a:ext cx="44956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curred in Chelmsford, Essex England during 1566</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e about as a result of pressure from the chur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trial to be written up in a pamphle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zabeth Frances used a cat to inflict harm on Agnes Waterhouse and her daughter Joa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zabeth was found guilty and put in jail while Agnes was hung</a:t>
            </a:r>
            <a:endParaRPr b="0" lang="en-US" sz="2200" spc="-1" strike="noStrike">
              <a:solidFill>
                <a:srgbClr val="000000"/>
              </a:solidFill>
              <a:latin typeface="Arial"/>
            </a:endParaRPr>
          </a:p>
        </p:txBody>
      </p:sp>
      <p:pic>
        <p:nvPicPr>
          <p:cNvPr id="90" name="Picture 6" descr="witchh.gif"/>
          <p:cNvPicPr/>
          <p:nvPr/>
        </p:nvPicPr>
        <p:blipFill>
          <a:blip r:embed="rId1"/>
          <a:stretch/>
        </p:blipFill>
        <p:spPr>
          <a:xfrm>
            <a:off x="5562720" y="1295280"/>
            <a:ext cx="2971800" cy="517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31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0" lang="en-US" sz="4400" spc="-1" strike="noStrike">
                <a:solidFill>
                  <a:srgbClr val="000000"/>
                </a:solidFill>
                <a:latin typeface="Arial"/>
              </a:rPr>
              <a:t>Do you believe in Witchcraft?</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m Witch Trials</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red in Salem, Massachuset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2-196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were accused of witchcraft and 200 were put in ja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uba, Sarah Good, and Sarah Osbourne were accused of witchcraft and thrown in jail due to Tituba’s confe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2" descr="C:\Users\Owner\AppData\Local\Microsoft\Windows\Temporary Internet Files\Content.IE5\FTPW0WSL\MC900436216[1].png"/>
          <p:cNvPicPr/>
          <p:nvPr/>
        </p:nvPicPr>
        <p:blipFill>
          <a:blip r:embed="rId1"/>
          <a:stretch/>
        </p:blipFill>
        <p:spPr>
          <a:xfrm>
            <a:off x="380880" y="0"/>
            <a:ext cx="1828800" cy="1752480"/>
          </a:xfrm>
          <a:prstGeom prst="rect">
            <a:avLst/>
          </a:prstGeom>
          <a:ln w="0">
            <a:noFill/>
          </a:ln>
        </p:spPr>
      </p:pic>
      <p:pic>
        <p:nvPicPr>
          <p:cNvPr id="94" name="Picture 5" descr="C:\Users\Owner\AppData\Local\Microsoft\Windows\Temporary Internet Files\Content.IE5\XOZAUS8J\MC900027392[1].wmf"/>
          <p:cNvPicPr/>
          <p:nvPr/>
        </p:nvPicPr>
        <p:blipFill>
          <a:blip r:embed="rId2"/>
          <a:stretch/>
        </p:blipFill>
        <p:spPr>
          <a:xfrm>
            <a:off x="6858000" y="914400"/>
            <a:ext cx="1908000" cy="1492200"/>
          </a:xfrm>
          <a:prstGeom prst="rect">
            <a:avLst/>
          </a:prstGeom>
          <a:ln w="0">
            <a:noFill/>
          </a:ln>
        </p:spPr>
      </p:pic>
      <p:pic>
        <p:nvPicPr>
          <p:cNvPr id="95" name="Picture 10" descr="witch.jpg"/>
          <p:cNvPicPr/>
          <p:nvPr/>
        </p:nvPicPr>
        <p:blipFill>
          <a:blip r:embed="rId3"/>
          <a:stretch/>
        </p:blipFill>
        <p:spPr>
          <a:xfrm>
            <a:off x="2819520" y="3962520"/>
            <a:ext cx="3200400" cy="221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ches went through many things during their lifetime, but there wasn't really any way to prove that you weren't a witch, so people who were suspected to be a witch were usually ki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chcraft has been argued on for many generations, and still there is no conclusive answer to what it is, the only real question that can be answered is... Do you believe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txBox="1"/>
          <p:nvPr/>
        </p:nvSpPr>
        <p:spPr>
          <a:xfrm>
            <a:off x="457200" y="609480"/>
            <a:ext cx="8229600" cy="452592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itchcraft is commonly misunderstood. Many people have their own beliefs on the subject without knowing very much information on it. Most of us know what in general a witch is, however we don't know what it is they practice exactly, or what kind of hardships they faced, but we are here to provide a better understanding using general knowledge and specific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txBox="1"/>
          <p:nvPr/>
        </p:nvSpPr>
        <p:spPr>
          <a:xfrm>
            <a:off x="380880" y="609480"/>
            <a:ext cx="8229600" cy="452592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itchcraft in the 16th and 17th century was based mostly in Europe. A witch was determined by many different signs. The accused witches were put through different tests to see if they actuall</a:t>
            </a:r>
            <a:r>
              <a:rPr b="1" i="1" lang="en-US" sz="3200" spc="-1" strike="noStrike">
                <a:solidFill>
                  <a:srgbClr val="000000"/>
                </a:solidFill>
                <a:latin typeface="Arial"/>
              </a:rPr>
              <a:t>y were practicing witchcraft. If the tests came out positive, they would face cruel and unusual punishment. There are a few cases in which you may be familiar with that involve the trials of witche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itchcraf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neral agreement hasn’t been reached on what witchcraft was, or might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bout 3 definitions that can be used to understand witchcra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defini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chcraft, a form of sorcery, or the magical manipulation of nature for self-aggrandizement, or for the benefit or harm of a client. This manipulation often involves the use of spirit-helpers, or famili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nglanders defini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colonists defined witchcraft as “the use of supernatural power, usually but not always for ha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witches were considered hea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ir powers for g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nglanders definition (cont.)</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some humans were darkly unnatural and possessed supernatural abil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sed witches were said to abuse their powers by wreaking havoc on the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ve for why witchcraft was used was how the term was def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itans definition</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derstood witchcraft as a relationship between a human being and the dev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ed for evidence of this relatio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elling Puritans of the pain they felt when warding off Satan’s attempt to lure them they gave useful evidence for their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3:55:24Z</dcterms:created>
  <dc:creator>aps13.romeiva</dc:creator>
  <dc:description/>
  <dc:language>en-US</dc:language>
  <cp:lastModifiedBy>IVAN</cp:lastModifiedBy>
  <dcterms:modified xsi:type="dcterms:W3CDTF">2011-10-25T04:10:04Z</dcterms:modified>
  <cp:revision>33</cp:revision>
  <dc:subject/>
  <dc:title>Witchcraft</dc:title>
</cp:coreProperties>
</file>